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3F8-6F58-4B7F-B74A-A761C81C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BEC-1C32-4905-A860-E6E2533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DDF-B32B-423E-A751-5C387817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574-9932-4F55-9FA6-3415A313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62F-E1BB-4252-9111-CFAC9DE0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26D-AF38-4919-92E0-8F3CA7C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D0B-711C-46C2-97B5-D5C1DCE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630-0D00-48FA-AD2C-B7F5DDF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647-B322-480A-9651-FB2D2B8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ACF-F5BA-47CC-B37B-3D5B545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987-E73E-404F-BF1A-08C551F1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F98-F384-4DCF-85F5-370D29A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886D-2D85-4822-BAD2-000581B4D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19200" y="2509920"/>
            <a:ext cx="843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9.3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切线的性质和判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7484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一条直线是圆的切线，你现在会有多少种方法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2133720"/>
            <a:ext cx="8137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以下三种方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定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的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作判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判定定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18716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7640"/>
            <a:ext cx="202716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0080" y="620280"/>
            <a:ext cx="8137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=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=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916400" y="2347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8812080" y="334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7269120" y="1916280"/>
            <a:ext cx="15130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102440" y="3351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8020080" y="3281400"/>
            <a:ext cx="142920" cy="154080"/>
            <a:chOff x="8020080" y="3281400"/>
            <a:chExt cx="142920" cy="154080"/>
          </a:xfrm>
        </p:grpSpPr>
        <p:sp>
          <p:nvSpPr>
            <p:cNvPr id="148" name="Line 16"/>
            <p:cNvSpPr/>
            <p:nvPr/>
          </p:nvSpPr>
          <p:spPr>
            <a:xfrm>
              <a:off x="8020080" y="329112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8163000" y="328140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8"/>
          <p:cNvSpPr/>
          <p:nvPr/>
        </p:nvSpPr>
        <p:spPr>
          <a:xfrm>
            <a:off x="8024760" y="2684520"/>
            <a:ext cx="0" cy="749160"/>
          </a:xfrm>
          <a:prstGeom prst="line">
            <a:avLst/>
          </a:prstGeom>
          <a:ln w="255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65880" y="3432240"/>
            <a:ext cx="1519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H="1" flipV="1">
            <a:off x="8022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7257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942320" y="344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193680" y="2647800"/>
            <a:ext cx="648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分析：由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过⊙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上的点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所以连接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只要证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即可</a:t>
            </a:r>
            <a:r>
              <a:rPr b="1" lang="zh-CN" sz="20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206280" y="3716280"/>
            <a:ext cx="6769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,C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等腰三角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的中线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2"/>
          <p:cNvGrpSpPr/>
          <p:nvPr/>
        </p:nvGrpSpPr>
        <p:grpSpPr>
          <a:xfrm>
            <a:off x="7476840" y="2019600"/>
            <a:ext cx="156960" cy="100440"/>
            <a:chOff x="7476840" y="2019600"/>
            <a:chExt cx="156960" cy="100440"/>
          </a:xfrm>
        </p:grpSpPr>
        <p:sp>
          <p:nvSpPr>
            <p:cNvPr id="158" name="Line 13"/>
            <p:cNvSpPr/>
            <p:nvPr/>
          </p:nvSpPr>
          <p:spPr>
            <a:xfrm flipH="1">
              <a:off x="7524720" y="2058840"/>
              <a:ext cx="109080" cy="55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H="1" flipV="1">
              <a:off x="7476840" y="2019600"/>
              <a:ext cx="51120" cy="10044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85840" y="11048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线上一点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⊥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圆心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半径作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269120" y="1916280"/>
            <a:ext cx="1119240" cy="11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6548400" y="1622520"/>
            <a:ext cx="2089080" cy="1711080"/>
            <a:chOff x="6548400" y="1622520"/>
            <a:chExt cx="2089080" cy="1711080"/>
          </a:xfrm>
        </p:grpSpPr>
        <p:sp>
          <p:nvSpPr>
            <p:cNvPr id="164" name="Line 6"/>
            <p:cNvSpPr/>
            <p:nvPr/>
          </p:nvSpPr>
          <p:spPr>
            <a:xfrm>
              <a:off x="6548400" y="2479680"/>
              <a:ext cx="2089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 flipV="1">
              <a:off x="6548400" y="162252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548400" y="247968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H="1" flipV="1">
            <a:off x="7575480" y="1974600"/>
            <a:ext cx="255600" cy="51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7811640" y="220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372360" y="234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8316720" y="1628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8367840" y="3213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7575120" y="2486160"/>
            <a:ext cx="249480" cy="50472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8"/>
          <p:cNvGrpSpPr/>
          <p:nvPr/>
        </p:nvGrpSpPr>
        <p:grpSpPr>
          <a:xfrm>
            <a:off x="7380000" y="2845800"/>
            <a:ext cx="251280" cy="367200"/>
            <a:chOff x="7380000" y="2845800"/>
            <a:chExt cx="251280" cy="367200"/>
          </a:xfrm>
        </p:grpSpPr>
        <p:grpSp>
          <p:nvGrpSpPr>
            <p:cNvPr id="174" name="Group 15"/>
            <p:cNvGrpSpPr/>
            <p:nvPr/>
          </p:nvGrpSpPr>
          <p:grpSpPr>
            <a:xfrm>
              <a:off x="7485840" y="2845800"/>
              <a:ext cx="145440" cy="94680"/>
              <a:chOff x="7485840" y="2845800"/>
              <a:chExt cx="145440" cy="94680"/>
            </a:xfrm>
          </p:grpSpPr>
          <p:sp>
            <p:nvSpPr>
              <p:cNvPr id="175" name="Line 16"/>
              <p:cNvSpPr/>
              <p:nvPr/>
            </p:nvSpPr>
            <p:spPr>
              <a:xfrm flipH="1" flipV="1">
                <a:off x="7530840" y="2851560"/>
                <a:ext cx="10044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 flipH="1">
                <a:off x="7485840" y="28458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23"/>
            <p:cNvSpPr/>
            <p:nvPr/>
          </p:nvSpPr>
          <p:spPr>
            <a:xfrm>
              <a:off x="7380000" y="2938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24"/>
          <p:cNvSpPr/>
          <p:nvPr/>
        </p:nvSpPr>
        <p:spPr>
          <a:xfrm>
            <a:off x="7426440" y="1728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255600" y="2940120"/>
            <a:ext cx="59342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证明：过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⊥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分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⊥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半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1513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证法有何不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直线经过圆上一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连结这点和圆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到辅助半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所作半径与这直线垂直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垂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条件中不知直线与圆是否有公共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过圆心作直线的垂线段为辅助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垂线段长等于半径长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半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042920" y="1844640"/>
            <a:ext cx="1862640" cy="1800000"/>
            <a:chOff x="1042920" y="1844640"/>
            <a:chExt cx="1862640" cy="1800000"/>
          </a:xfrm>
        </p:grpSpPr>
        <p:sp>
          <p:nvSpPr>
            <p:cNvPr id="183" name="Text Box 5"/>
            <p:cNvSpPr/>
            <p:nvPr/>
          </p:nvSpPr>
          <p:spPr>
            <a:xfrm>
              <a:off x="1856880" y="2276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2752560" y="326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1209600" y="1844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1936800" y="333180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1042920" y="327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"/>
            <p:cNvGrpSpPr/>
            <p:nvPr/>
          </p:nvGrpSpPr>
          <p:grpSpPr>
            <a:xfrm>
              <a:off x="1960560" y="3209760"/>
              <a:ext cx="142920" cy="154080"/>
              <a:chOff x="1960560" y="3209760"/>
              <a:chExt cx="142920" cy="15408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1960560" y="3219480"/>
                <a:ext cx="142920" cy="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2103480" y="3209760"/>
                <a:ext cx="0" cy="154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Line 13"/>
            <p:cNvSpPr/>
            <p:nvPr/>
          </p:nvSpPr>
          <p:spPr>
            <a:xfrm>
              <a:off x="1965240" y="2612880"/>
              <a:ext cx="0" cy="74916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206360" y="3360600"/>
              <a:ext cx="151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H="1" flipV="1">
              <a:off x="1963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 flipV="1">
              <a:off x="1198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1882800" y="336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8"/>
          <p:cNvGrpSpPr/>
          <p:nvPr/>
        </p:nvGrpSpPr>
        <p:grpSpPr>
          <a:xfrm>
            <a:off x="4859280" y="1700280"/>
            <a:ext cx="2265480" cy="1865160"/>
            <a:chOff x="4859280" y="1700280"/>
            <a:chExt cx="2265480" cy="1865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5973120" y="2923200"/>
              <a:ext cx="145800" cy="94680"/>
              <a:chOff x="5973120" y="2923200"/>
              <a:chExt cx="145800" cy="94680"/>
            </a:xfrm>
          </p:grpSpPr>
          <p:sp>
            <p:nvSpPr>
              <p:cNvPr id="198" name="Line 20"/>
              <p:cNvSpPr/>
              <p:nvPr/>
            </p:nvSpPr>
            <p:spPr>
              <a:xfrm flipH="1" flipV="1">
                <a:off x="6018120" y="2928960"/>
                <a:ext cx="10080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1"/>
              <p:cNvSpPr/>
              <p:nvPr/>
            </p:nvSpPr>
            <p:spPr>
              <a:xfrm flipH="1">
                <a:off x="5973120" y="29232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964480" y="2097360"/>
              <a:ext cx="156960" cy="100080"/>
              <a:chOff x="5964480" y="2097360"/>
              <a:chExt cx="156960" cy="100080"/>
            </a:xfrm>
          </p:grpSpPr>
          <p:sp>
            <p:nvSpPr>
              <p:cNvPr id="201" name="Line 23"/>
              <p:cNvSpPr/>
              <p:nvPr/>
            </p:nvSpPr>
            <p:spPr>
              <a:xfrm flipH="1">
                <a:off x="6012000" y="2135880"/>
                <a:ext cx="109440" cy="5544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4"/>
              <p:cNvSpPr/>
              <p:nvPr/>
            </p:nvSpPr>
            <p:spPr>
              <a:xfrm flipH="1" flipV="1">
                <a:off x="5964480" y="2097360"/>
                <a:ext cx="50760" cy="100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25"/>
            <p:cNvSpPr/>
            <p:nvPr/>
          </p:nvSpPr>
          <p:spPr>
            <a:xfrm>
              <a:off x="5756400" y="1993680"/>
              <a:ext cx="1119240" cy="111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6"/>
            <p:cNvGrpSpPr/>
            <p:nvPr/>
          </p:nvGrpSpPr>
          <p:grpSpPr>
            <a:xfrm>
              <a:off x="5035680" y="1700280"/>
              <a:ext cx="2089080" cy="1711080"/>
              <a:chOff x="5035680" y="1700280"/>
              <a:chExt cx="2089080" cy="1711080"/>
            </a:xfrm>
          </p:grpSpPr>
          <p:sp>
            <p:nvSpPr>
              <p:cNvPr id="205" name="Line 27"/>
              <p:cNvSpPr/>
              <p:nvPr/>
            </p:nvSpPr>
            <p:spPr>
              <a:xfrm>
                <a:off x="5035680" y="2557440"/>
                <a:ext cx="208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28"/>
              <p:cNvSpPr/>
              <p:nvPr/>
            </p:nvSpPr>
            <p:spPr>
              <a:xfrm flipV="1">
                <a:off x="5035680" y="170028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5035680" y="255744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30"/>
            <p:cNvSpPr/>
            <p:nvPr/>
          </p:nvSpPr>
          <p:spPr>
            <a:xfrm flipH="1" flipV="1">
              <a:off x="6062760" y="2052000"/>
              <a:ext cx="255600" cy="517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 flipH="1">
              <a:off x="6062760" y="2563560"/>
              <a:ext cx="249120" cy="504720"/>
            </a:xfrm>
            <a:prstGeom prst="line">
              <a:avLst/>
            </a:prstGeom>
            <a:ln w="25560">
              <a:solidFill>
                <a:srgbClr val="ff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298920" y="228276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>
              <a:off x="4859280" y="2427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6804000" y="1706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8547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6"/>
            <p:cNvSpPr/>
            <p:nvPr/>
          </p:nvSpPr>
          <p:spPr>
            <a:xfrm>
              <a:off x="5867280" y="30160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5913360" y="1806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07600" y="3351240"/>
            <a:ext cx="4606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,∴∠B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=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OP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P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98100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△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直径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E⊥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P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79280" y="189000"/>
            <a:ext cx="1738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练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497640" y="1773360"/>
            <a:ext cx="15127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6978600" y="1814040"/>
            <a:ext cx="55584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 flipV="1">
            <a:off x="7522920" y="1806120"/>
            <a:ext cx="55548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975360" y="3233880"/>
            <a:ext cx="1121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7558200" y="3009960"/>
            <a:ext cx="447480" cy="22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936200" y="3040200"/>
            <a:ext cx="92520" cy="65880"/>
            <a:chOff x="7936200" y="3040200"/>
            <a:chExt cx="92520" cy="65880"/>
          </a:xfrm>
        </p:grpSpPr>
        <p:sp>
          <p:nvSpPr>
            <p:cNvPr id="225" name="Line 11"/>
            <p:cNvSpPr/>
            <p:nvPr/>
          </p:nvSpPr>
          <p:spPr>
            <a:xfrm flipH="1">
              <a:off x="7961760" y="3080520"/>
              <a:ext cx="66960" cy="25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 flipH="1" flipV="1">
              <a:off x="7936200" y="3040200"/>
              <a:ext cx="23040" cy="58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13"/>
          <p:cNvSpPr/>
          <p:nvPr/>
        </p:nvSpPr>
        <p:spPr>
          <a:xfrm flipH="1" flipV="1">
            <a:off x="7257960" y="2530080"/>
            <a:ext cx="279360" cy="7016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019640" y="2290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7502400" y="148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732360" y="3213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8151840" y="31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8045280" y="2781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524360" y="3284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79280" y="189000"/>
            <a:ext cx="2448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981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定切线的方法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757800" y="1989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1908000" y="1484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83528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的距离等于圆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1835280" y="234936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外端且垂直这条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861240" y="1484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755640" y="2781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的添辅助线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684360" y="3141720"/>
            <a:ext cx="820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已知时，作出过公共点的半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半径垂直于该直线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，证垂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不确定时，过圆心作直线的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再证明这条垂线段等于圆的半径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，证半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8"/>
          <p:cNvSpPr/>
          <p:nvPr/>
        </p:nvSpPr>
        <p:spPr>
          <a:xfrm>
            <a:off x="1547640" y="1700280"/>
            <a:ext cx="196920" cy="1008000"/>
          </a:xfrm>
          <a:custGeom>
            <a:avLst/>
            <a:gdLst>
              <a:gd name="textAreaLeft" fmla="*/ 126000 w 196920"/>
              <a:gd name="textAreaRight" fmla="*/ 197280 w 1969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6861240" y="1916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6861240" y="23493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5867280" y="1628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5867280" y="2060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5940360" y="249228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900000" y="4869000"/>
            <a:ext cx="756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切线性质定理：圆的切线垂直于圆的半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042920" y="5445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线作法：连接圆心与切点可得半径与切线垂直。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6966000" y="-317520"/>
            <a:ext cx="2484000" cy="1008000"/>
            <a:chOff x="6966000" y="-317520"/>
            <a:chExt cx="2484000" cy="1008000"/>
          </a:xfrm>
        </p:grpSpPr>
        <p:pic>
          <p:nvPicPr>
            <p:cNvPr id="252" name="Picture 10" descr="1"/>
            <p:cNvPicPr/>
            <p:nvPr/>
          </p:nvPicPr>
          <p:blipFill>
            <a:blip r:embed="rId1"/>
            <a:stretch/>
          </p:blipFill>
          <p:spPr>
            <a:xfrm>
              <a:off x="7038000" y="-317520"/>
              <a:ext cx="241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2"/>
            <p:cNvSpPr/>
            <p:nvPr/>
          </p:nvSpPr>
          <p:spPr>
            <a:xfrm>
              <a:off x="6966000" y="-317520"/>
              <a:ext cx="22107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检测反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zk01.jpg" descr=""/>
          <p:cNvPicPr/>
          <p:nvPr/>
        </p:nvPicPr>
        <p:blipFill>
          <a:blip r:embed="rId2"/>
          <a:stretch/>
        </p:blipFill>
        <p:spPr>
          <a:xfrm>
            <a:off x="6585120" y="1511280"/>
            <a:ext cx="1987560" cy="1844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428760" y="198360"/>
            <a:ext cx="7527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HZ-S92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.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(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Z-S92"/>
              </a:rPr>
              <a:t>2016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6-S92"/>
              </a:rPr>
              <a:t>·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方正楷体_GBK"/>
              </a:rPr>
              <a:t>长春中考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如图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切点分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2,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6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则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.    π    B.  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C.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D.     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3"/>
          <a:stretch/>
        </p:blipFill>
        <p:spPr>
          <a:xfrm>
            <a:off x="1187280" y="2071800"/>
            <a:ext cx="235080" cy="6080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5" descr=""/>
          <p:cNvPicPr/>
          <p:nvPr/>
        </p:nvPicPr>
        <p:blipFill>
          <a:blip r:embed="rId4"/>
          <a:stretch/>
        </p:blipFill>
        <p:spPr>
          <a:xfrm>
            <a:off x="3780000" y="2255760"/>
            <a:ext cx="234720" cy="60804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6" descr=""/>
          <p:cNvPicPr/>
          <p:nvPr/>
        </p:nvPicPr>
        <p:blipFill>
          <a:blip r:embed="rId5"/>
          <a:stretch/>
        </p:blipFill>
        <p:spPr>
          <a:xfrm>
            <a:off x="5713560" y="2263680"/>
            <a:ext cx="212400" cy="600120"/>
          </a:xfrm>
          <a:prstGeom prst="rect">
            <a:avLst/>
          </a:prstGeom>
          <a:ln w="0">
            <a:noFill/>
          </a:ln>
        </p:spPr>
      </p:pic>
      <p:sp>
        <p:nvSpPr>
          <p:cNvPr id="259" name="矩形 14"/>
          <p:cNvSpPr/>
          <p:nvPr/>
        </p:nvSpPr>
        <p:spPr>
          <a:xfrm>
            <a:off x="1982520" y="1757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6"/>
          <p:cNvSpPr/>
          <p:nvPr/>
        </p:nvSpPr>
        <p:spPr>
          <a:xfrm>
            <a:off x="179280" y="3255840"/>
            <a:ext cx="75726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夹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切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延长线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B.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D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10" descr=""/>
          <p:cNvPicPr/>
          <p:nvPr/>
        </p:nvPicPr>
        <p:blipFill>
          <a:blip r:embed="rId6"/>
          <a:stretch/>
        </p:blipFill>
        <p:spPr>
          <a:xfrm>
            <a:off x="2087640" y="522432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262" name="矩形 20"/>
          <p:cNvSpPr/>
          <p:nvPr/>
        </p:nvSpPr>
        <p:spPr>
          <a:xfrm>
            <a:off x="1538640" y="4410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12" descr=""/>
          <p:cNvPicPr/>
          <p:nvPr/>
        </p:nvPicPr>
        <p:blipFill>
          <a:blip r:embed="rId7"/>
          <a:stretch/>
        </p:blipFill>
        <p:spPr>
          <a:xfrm>
            <a:off x="684360" y="52243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64" name="j45.jpg" descr="id:2147508240;FounderCES"/>
          <p:cNvPicPr/>
          <p:nvPr/>
        </p:nvPicPr>
        <p:blipFill>
          <a:blip r:embed="rId8"/>
          <a:stretch/>
        </p:blipFill>
        <p:spPr>
          <a:xfrm>
            <a:off x="5156280" y="4691160"/>
            <a:ext cx="23320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j46.jpg" descr=""/>
          <p:cNvPicPr/>
          <p:nvPr/>
        </p:nvPicPr>
        <p:blipFill>
          <a:blip r:embed="rId1"/>
          <a:stretch/>
        </p:blipFill>
        <p:spPr>
          <a:xfrm>
            <a:off x="5572080" y="2071800"/>
            <a:ext cx="2149560" cy="1644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71680" y="785880"/>
            <a:ext cx="75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一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圆的切线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延长交圆于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6°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857160" y="2000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易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6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64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而求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"/>
          <p:cNvSpPr/>
          <p:nvPr/>
        </p:nvSpPr>
        <p:spPr>
          <a:xfrm>
            <a:off x="5525640" y="12142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2484360" y="2205000"/>
            <a:ext cx="39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95408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 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和圆有哪些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过哪些切线的判断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5840" y="60804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切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任取一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量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切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具有怎样的位置关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j39.jpg" descr=""/>
          <p:cNvPicPr/>
          <p:nvPr/>
        </p:nvPicPr>
        <p:blipFill>
          <a:blip r:embed="rId1"/>
          <a:stretch/>
        </p:blipFill>
        <p:spPr>
          <a:xfrm>
            <a:off x="6515280" y="812880"/>
            <a:ext cx="2093760" cy="218448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165240" y="3357720"/>
            <a:ext cx="84438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设猜想不成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假设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过点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足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”“&lt;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”)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圆心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距离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圆的半径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圆的位置关系为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与直线与☉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切矛盾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j40.jpg" descr=""/>
          <p:cNvPicPr/>
          <p:nvPr/>
        </p:nvPicPr>
        <p:blipFill>
          <a:blip r:embed="rId2"/>
          <a:stretch/>
        </p:blipFill>
        <p:spPr>
          <a:xfrm>
            <a:off x="6539040" y="490680"/>
            <a:ext cx="302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108000" y="476280"/>
            <a:ext cx="90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垂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垂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线段最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的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得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交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和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矛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j40.jpg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0225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243000" y="738360"/>
            <a:ext cx="76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语言叙述上述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几何语言表示你得出的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357560" y="21420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【思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41.jpg" descr=""/>
          <p:cNvPicPr/>
          <p:nvPr/>
        </p:nvPicPr>
        <p:blipFill>
          <a:blip r:embed="rId1"/>
          <a:stretch/>
        </p:blipFill>
        <p:spPr>
          <a:xfrm>
            <a:off x="6807240" y="331920"/>
            <a:ext cx="1733400" cy="147312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55520" y="2997360"/>
            <a:ext cx="7790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切线的性质定理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圆的切线垂直于过切点的半径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Times New Roman"/>
              </a:rPr>
              <a:t>几何语言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如图所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∵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切☉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于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514440" y="53960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辅助线作法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圆心与切点可得半径与切线垂直。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289160"/>
            <a:ext cx="8208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8"/>
          <p:cNvSpPr/>
          <p:nvPr/>
        </p:nvSpPr>
        <p:spPr>
          <a:xfrm>
            <a:off x="789120" y="2565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9"/>
          <p:cNvSpPr/>
          <p:nvPr/>
        </p:nvSpPr>
        <p:spPr>
          <a:xfrm>
            <a:off x="1476360" y="2558880"/>
            <a:ext cx="45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   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 ∴∠AOB=1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B=2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∴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=7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5280" y="8110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，切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点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8"/>
          <p:cNvGrpSpPr/>
          <p:nvPr/>
        </p:nvGrpSpPr>
        <p:grpSpPr>
          <a:xfrm>
            <a:off x="5580000" y="1936800"/>
            <a:ext cx="3210120" cy="2355840"/>
            <a:chOff x="5580000" y="1936800"/>
            <a:chExt cx="3210120" cy="2355840"/>
          </a:xfrm>
        </p:grpSpPr>
        <p:pic>
          <p:nvPicPr>
            <p:cNvPr id="61" name="Picture 14" descr=""/>
            <p:cNvPicPr/>
            <p:nvPr/>
          </p:nvPicPr>
          <p:blipFill>
            <a:blip r:embed="rId1"/>
            <a:stretch/>
          </p:blipFill>
          <p:spPr>
            <a:xfrm>
              <a:off x="5580000" y="1936800"/>
              <a:ext cx="3210120" cy="23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17"/>
            <p:cNvGrpSpPr/>
            <p:nvPr/>
          </p:nvGrpSpPr>
          <p:grpSpPr>
            <a:xfrm>
              <a:off x="7164360" y="2440800"/>
              <a:ext cx="431640" cy="1297080"/>
              <a:chOff x="7164360" y="2440800"/>
              <a:chExt cx="431640" cy="1297080"/>
            </a:xfrm>
          </p:grpSpPr>
          <p:sp>
            <p:nvSpPr>
              <p:cNvPr id="63" name="Line 15"/>
              <p:cNvSpPr/>
              <p:nvPr/>
            </p:nvSpPr>
            <p:spPr>
              <a:xfrm>
                <a:off x="7164360" y="2440800"/>
                <a:ext cx="431640" cy="64764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7308720" y="3017160"/>
                <a:ext cx="286920" cy="72072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Rectangle 2"/>
          <p:cNvSpPr/>
          <p:nvPr/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71640" y="1268280"/>
            <a:ext cx="8064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5440" y="898560"/>
            <a:ext cx="67532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经过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外端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距离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760" y="42768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时圆心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距离就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半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3"/>
          <p:cNvGrpSpPr/>
          <p:nvPr/>
        </p:nvGrpSpPr>
        <p:grpSpPr>
          <a:xfrm>
            <a:off x="6913440" y="1862280"/>
            <a:ext cx="2374560" cy="1695600"/>
            <a:chOff x="6913440" y="1862280"/>
            <a:chExt cx="2374560" cy="1695600"/>
          </a:xfrm>
        </p:grpSpPr>
        <p:sp>
          <p:nvSpPr>
            <p:cNvPr id="70" name="Oval 16"/>
            <p:cNvSpPr/>
            <p:nvPr/>
          </p:nvSpPr>
          <p:spPr>
            <a:xfrm>
              <a:off x="7848000" y="2509920"/>
              <a:ext cx="72360" cy="70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8"/>
            <p:cNvSpPr/>
            <p:nvPr/>
          </p:nvSpPr>
          <p:spPr>
            <a:xfrm>
              <a:off x="7200360" y="1862280"/>
              <a:ext cx="1367640" cy="1368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6913440" y="3230640"/>
              <a:ext cx="179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7879320" y="2541600"/>
              <a:ext cx="1080" cy="688680"/>
            </a:xfrm>
            <a:custGeom>
              <a:avLst/>
              <a:gdLst/>
              <a:ahLst/>
              <a:rect l="l" t="t" r="r" b="b"/>
              <a:pathLst>
                <a:path w="1" h="434">
                  <a:moveTo>
                    <a:pt x="1" y="0"/>
                  </a:moveTo>
                  <a:lnTo>
                    <a:pt x="0" y="43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7560360" y="3159000"/>
              <a:ext cx="64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8425080" y="2927160"/>
              <a:ext cx="8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3"/>
            <p:cNvSpPr/>
            <p:nvPr/>
          </p:nvSpPr>
          <p:spPr>
            <a:xfrm>
              <a:off x="7690680" y="2052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7871400" y="3014640"/>
              <a:ext cx="215280" cy="215640"/>
              <a:chOff x="7871400" y="3014640"/>
              <a:chExt cx="215280" cy="215640"/>
            </a:xfrm>
          </p:grpSpPr>
          <p:sp>
            <p:nvSpPr>
              <p:cNvPr id="78" name="Line 25"/>
              <p:cNvSpPr/>
              <p:nvPr/>
            </p:nvSpPr>
            <p:spPr>
              <a:xfrm>
                <a:off x="7871400" y="3014640"/>
                <a:ext cx="215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>
                <a:off x="8086680" y="3014640"/>
                <a:ext cx="0" cy="21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Text Box 29"/>
          <p:cNvSpPr/>
          <p:nvPr/>
        </p:nvSpPr>
        <p:spPr>
          <a:xfrm>
            <a:off x="68400" y="3230640"/>
            <a:ext cx="66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什么位置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2"/>
          <p:cNvGrpSpPr/>
          <p:nvPr/>
        </p:nvGrpSpPr>
        <p:grpSpPr>
          <a:xfrm>
            <a:off x="1692360" y="5272200"/>
            <a:ext cx="6408360" cy="1384200"/>
            <a:chOff x="1692360" y="5272200"/>
            <a:chExt cx="6408360" cy="1384200"/>
          </a:xfrm>
        </p:grpSpPr>
        <p:sp>
          <p:nvSpPr>
            <p:cNvPr id="82" name="Text Box 30"/>
            <p:cNvSpPr/>
            <p:nvPr/>
          </p:nvSpPr>
          <p:spPr>
            <a:xfrm>
              <a:off x="1692360" y="5272200"/>
              <a:ext cx="640836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由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Times New Roman"/>
                </a:rPr>
                <a:t>d=r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直线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是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⊙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的切线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1"/>
            <p:cNvSpPr/>
            <p:nvPr/>
          </p:nvSpPr>
          <p:spPr>
            <a:xfrm>
              <a:off x="2992680" y="5371920"/>
              <a:ext cx="701640" cy="286920"/>
            </a:xfrm>
            <a:prstGeom prst="rightArrow">
              <a:avLst>
                <a:gd name="adj1" fmla="val 50000"/>
                <a:gd name="adj2" fmla="val 61113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7913160" y="2976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7784640" y="34545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8897400" y="3903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7164360" y="2492280"/>
            <a:ext cx="1513080" cy="15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896240" y="32194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854840" y="4035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7935840" y="3882960"/>
            <a:ext cx="142920" cy="154080"/>
            <a:chOff x="7935840" y="3882960"/>
            <a:chExt cx="142920" cy="154080"/>
          </a:xfrm>
        </p:grpSpPr>
        <p:sp>
          <p:nvSpPr>
            <p:cNvPr id="92" name="Line 13"/>
            <p:cNvSpPr/>
            <p:nvPr/>
          </p:nvSpPr>
          <p:spPr>
            <a:xfrm>
              <a:off x="7935840" y="389268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8078760" y="388296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0"/>
          <p:cNvSpPr/>
          <p:nvPr/>
        </p:nvSpPr>
        <p:spPr>
          <a:xfrm>
            <a:off x="7921800" y="3247920"/>
            <a:ext cx="0" cy="74952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7164360" y="4021200"/>
            <a:ext cx="1614600" cy="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324000" y="112536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cc"/>
                </a:solidFill>
                <a:latin typeface="宋体"/>
              </a:rPr>
              <a:t>切线的判定定理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  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68360" y="3645000"/>
            <a:ext cx="5398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径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95280" y="27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几何符号表达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1"/>
                            </p:stCondLst>
                            <p:childTnLst>
                              <p:par>
                                <p:cTn id="1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18828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判  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3200" y="1052280"/>
            <a:ext cx="8686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外端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半径垂直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端点与半径垂直的直线是圆的切线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37200" y="98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676840" y="1484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83756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5"/>
          <p:cNvGrpSpPr/>
          <p:nvPr/>
        </p:nvGrpSpPr>
        <p:grpSpPr>
          <a:xfrm>
            <a:off x="259920" y="2906640"/>
            <a:ext cx="1830960" cy="1817640"/>
            <a:chOff x="259920" y="2906640"/>
            <a:chExt cx="1830960" cy="1817640"/>
          </a:xfrm>
        </p:grpSpPr>
        <p:sp>
          <p:nvSpPr>
            <p:cNvPr id="105" name="Text Box 8"/>
            <p:cNvSpPr/>
            <p:nvPr/>
          </p:nvSpPr>
          <p:spPr>
            <a:xfrm>
              <a:off x="1225080" y="3338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196280" y="3844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259920" y="36446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577800" y="2906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2"/>
            <p:cNvSpPr/>
            <p:nvPr/>
          </p:nvSpPr>
          <p:spPr>
            <a:xfrm>
              <a:off x="1305000" y="4394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1311480" y="444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1333440" y="36748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396360" y="3799440"/>
              <a:ext cx="1342440" cy="8971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4"/>
          <p:cNvGrpSpPr/>
          <p:nvPr/>
        </p:nvGrpSpPr>
        <p:grpSpPr>
          <a:xfrm>
            <a:off x="3213000" y="2852640"/>
            <a:ext cx="1712160" cy="1817640"/>
            <a:chOff x="3213000" y="2852640"/>
            <a:chExt cx="1712160" cy="1817640"/>
          </a:xfrm>
        </p:grpSpPr>
        <p:sp>
          <p:nvSpPr>
            <p:cNvPr id="114" name="Text Box 21"/>
            <p:cNvSpPr/>
            <p:nvPr/>
          </p:nvSpPr>
          <p:spPr>
            <a:xfrm>
              <a:off x="396216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3931560" y="36702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4860360" y="3944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331488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5"/>
            <p:cNvSpPr/>
            <p:nvPr/>
          </p:nvSpPr>
          <p:spPr>
            <a:xfrm>
              <a:off x="404172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404820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7"/>
            <p:cNvGrpSpPr/>
            <p:nvPr/>
          </p:nvGrpSpPr>
          <p:grpSpPr>
            <a:xfrm>
              <a:off x="4062600" y="3981240"/>
              <a:ext cx="142560" cy="154080"/>
              <a:chOff x="4062600" y="3981240"/>
              <a:chExt cx="142560" cy="154080"/>
            </a:xfrm>
          </p:grpSpPr>
          <p:sp>
            <p:nvSpPr>
              <p:cNvPr id="121" name="Line 28"/>
              <p:cNvSpPr/>
              <p:nvPr/>
            </p:nvSpPr>
            <p:spPr>
              <a:xfrm>
                <a:off x="4062600" y="3990960"/>
                <a:ext cx="1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9"/>
              <p:cNvSpPr/>
              <p:nvPr/>
            </p:nvSpPr>
            <p:spPr>
              <a:xfrm>
                <a:off x="4205160" y="398124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30"/>
            <p:cNvSpPr/>
            <p:nvPr/>
          </p:nvSpPr>
          <p:spPr>
            <a:xfrm>
              <a:off x="407052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3213000" y="4132080"/>
              <a:ext cx="161460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6"/>
          <p:cNvGrpSpPr/>
          <p:nvPr/>
        </p:nvGrpSpPr>
        <p:grpSpPr>
          <a:xfrm>
            <a:off x="5877000" y="2852640"/>
            <a:ext cx="1935720" cy="1817640"/>
            <a:chOff x="5877000" y="2852640"/>
            <a:chExt cx="1935720" cy="1817640"/>
          </a:xfrm>
        </p:grpSpPr>
        <p:sp>
          <p:nvSpPr>
            <p:cNvPr id="126" name="Text Box 33"/>
            <p:cNvSpPr/>
            <p:nvPr/>
          </p:nvSpPr>
          <p:spPr>
            <a:xfrm>
              <a:off x="669744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6668640" y="3790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747920" y="3500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6"/>
            <p:cNvSpPr/>
            <p:nvPr/>
          </p:nvSpPr>
          <p:spPr>
            <a:xfrm>
              <a:off x="605016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7"/>
            <p:cNvSpPr/>
            <p:nvPr/>
          </p:nvSpPr>
          <p:spPr>
            <a:xfrm>
              <a:off x="677700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678348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6794640" y="3606480"/>
              <a:ext cx="142920" cy="154080"/>
              <a:chOff x="6794640" y="3606480"/>
              <a:chExt cx="142920" cy="154080"/>
            </a:xfrm>
          </p:grpSpPr>
          <p:sp>
            <p:nvSpPr>
              <p:cNvPr id="133" name="Line 40"/>
              <p:cNvSpPr/>
              <p:nvPr/>
            </p:nvSpPr>
            <p:spPr>
              <a:xfrm>
                <a:off x="6794640" y="375084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1"/>
              <p:cNvSpPr/>
              <p:nvPr/>
            </p:nvSpPr>
            <p:spPr>
              <a:xfrm flipV="1">
                <a:off x="6937560" y="360648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Line 42"/>
            <p:cNvSpPr/>
            <p:nvPr/>
          </p:nvSpPr>
          <p:spPr>
            <a:xfrm>
              <a:off x="680580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3"/>
            <p:cNvSpPr/>
            <p:nvPr/>
          </p:nvSpPr>
          <p:spPr>
            <a:xfrm>
              <a:off x="5877000" y="3614760"/>
              <a:ext cx="187164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47"/>
          <p:cNvSpPr/>
          <p:nvPr/>
        </p:nvSpPr>
        <p:spPr>
          <a:xfrm>
            <a:off x="1332000" y="4941720"/>
            <a:ext cx="74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判定定理时，要注意直线须具备以下两个条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缺一不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经过半径的外端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与这半径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7:28:58Z</dcterms:created>
  <dc:creator>Administrator</dc:creator>
  <dc:description/>
  <dc:language>en-US</dc:language>
  <cp:lastModifiedBy>Administrator</cp:lastModifiedBy>
  <dcterms:modified xsi:type="dcterms:W3CDTF">2018-12-29T03:57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